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EA3A-73F8-4B44-97B9-109A6C90B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2359-898A-4C06-9EB5-D7D88D9FC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4B8D-C432-40ED-8012-0A3101EDD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C7BB-8403-40AB-B778-1668B4A7A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7D9E-F79C-4060-8CA4-BC9EA822D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7956D-58DE-460D-BFBA-E4E87F1BF9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D08B-510C-4791-8950-18BB0D4DA0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4E33-C1D5-4843-A72A-FB595201F9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9B1C-6F18-4CBD-8C61-93631659F0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96E1-4FEC-4378-A854-7BCF9482D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409B-AA83-489F-A59E-FA9E0F5D84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08FE-BE59-4229-89DA-8717D52538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718B-FDAE-454D-9825-2E1AE71A7F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19D9-3A6A-4112-BD1C-B9CF1CF999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0241-9C08-4638-B230-2B69CC4AAF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3EA9-7280-43B5-ACE7-DE55038E2F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8DF4F-FA7D-4AC2-8AF6-D84963FC41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ABA9-F3CB-474A-A2B0-46C2CF25AE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201-8700-4A96-BF63-C7464C650A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86B-4DE0-4B0E-A626-273FD1F849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2FA-0C50-4C5B-8142-D371932E5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96CA-B15C-4EFD-A45F-F60DD95DCD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97D-4AF5-4BFC-A298-2C605452FF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FB1-BD14-4444-9D85-2BF9D2BF94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C09-BA9B-4CEE-B161-2D4B7DF352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8F6-0854-4D22-B724-85A7AC8FB9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E70-0DB6-4EB7-97C7-1BB17E6C3C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96D-8839-4A01-8A24-69124EA097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5AD-0536-4D36-ADDB-C65F82B41C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EFA-E1C7-4CCA-A141-0332DEA98D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5B3-29B0-4296-9E43-FA2E5A37D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B4FA-67F7-4D32-B706-B18FBDCB3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D1F1-1F04-44D2-ADF3-235ECC1A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C427-DC1C-4FB6-A973-107F1B994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86E8-E944-418E-8691-245B041D3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794F-2609-499D-9BE5-1392C08EC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29C1-76C1-4F44-8D36-502943E8B13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EDA-C2B2-4141-9300-018BDB95484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1F9-5F12-49BA-BFC9-D247F8E912E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82904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4916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729560" cy="901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0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Zoom size controls how much you see on screen. You can set the size to be larger or small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634680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5" name="TextBox 3"/>
          <p:cNvSpPr/>
          <p:nvPr/>
        </p:nvSpPr>
        <p:spPr>
          <a:xfrm>
            <a:off x="6019920" y="4603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Sl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759120" y="4973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7696080" y="478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Zoo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5"/>
          <p:cNvCxnSpPr/>
          <p:nvPr/>
        </p:nvCxnSpPr>
        <p:spPr>
          <a:xfrm>
            <a:off x="5028840" y="5302080"/>
            <a:ext cx="76284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11"/>
          <p:cNvCxnSpPr/>
          <p:nvPr/>
        </p:nvCxnSpPr>
        <p:spPr>
          <a:xfrm flipH="1">
            <a:off x="777204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3"/>
          <p:cNvCxnSpPr/>
          <p:nvPr/>
        </p:nvCxnSpPr>
        <p:spPr>
          <a:xfrm>
            <a:off x="6819480" y="4973760"/>
            <a:ext cx="1080" cy="63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69339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lose a workbook b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Close Window butt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File command tab and choosing Clo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W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172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F4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7010280" y="2209680"/>
            <a:ext cx="552600" cy="5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91520" cy="1158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" descr=""/>
          <p:cNvPicPr/>
          <p:nvPr/>
        </p:nvPicPr>
        <p:blipFill>
          <a:blip r:embed="rId2"/>
          <a:stretch/>
        </p:blipFill>
        <p:spPr>
          <a:xfrm>
            <a:off x="1587600" y="133344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287" name="Title 5" descr=""/>
          <p:cNvPicPr/>
          <p:nvPr/>
        </p:nvPicPr>
        <p:blipFill>
          <a:blip r:embed="rId2"/>
          <a:stretch/>
        </p:blipFill>
        <p:spPr>
          <a:xfrm>
            <a:off x="3060720" y="2773440"/>
            <a:ext cx="6089760" cy="132228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4BA-C987-49A6-86C6-E3A30F07C8C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ells contain text, numbers, or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termine a cell’s contents, click the cell and check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762880" cy="21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2" name="Oval 4"/>
          <p:cNvSpPr/>
          <p:nvPr/>
        </p:nvSpPr>
        <p:spPr>
          <a:xfrm>
            <a:off x="4114800" y="3200400"/>
            <a:ext cx="12952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6"/>
          <p:cNvCxnSpPr>
            <a:endCxn id="292" idx="5"/>
          </p:cNvCxnSpPr>
          <p:nvPr/>
        </p:nvCxnSpPr>
        <p:spPr>
          <a:xfrm flipH="1" flipV="1">
            <a:off x="5218920" y="3916080"/>
            <a:ext cx="1639080" cy="1113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8107200" cy="901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open a workbook b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ing the File command tab and choosing Op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O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ing [Ctrl]+[F12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ble-clicking the file name in an Explorer or a Computer wind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1828800" y="4275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rkbooks that are opened or copied from an Internet location open in Protecte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2"/>
          <a:stretch/>
        </p:blipFill>
        <p:spPr>
          <a:xfrm>
            <a:off x="1028880" y="1676520"/>
            <a:ext cx="7738920" cy="204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ells contain text, numbers, or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termine a cell’s contents, click the cell and check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5762880" cy="21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Oval 4"/>
          <p:cNvSpPr/>
          <p:nvPr/>
        </p:nvSpPr>
        <p:spPr>
          <a:xfrm>
            <a:off x="4114800" y="3200400"/>
            <a:ext cx="129528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6"/>
          <p:cNvCxnSpPr>
            <a:endCxn id="302" idx="5"/>
          </p:cNvCxnSpPr>
          <p:nvPr/>
        </p:nvCxnSpPr>
        <p:spPr>
          <a:xfrm flipH="1" flipV="1">
            <a:off x="5218920" y="3916080"/>
            <a:ext cx="1639080" cy="1113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2682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the worksheet is in Ready mode, click the cell, key the new data, and press [Enter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delete cell contents, click the cell and press [Delete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double-clicking a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clicking the cell and pressing [F2]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Edit mode by clicking the cell and clicking in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06" name="Content Placeholder 3" descr=""/>
          <p:cNvPicPr/>
          <p:nvPr/>
        </p:nvPicPr>
        <p:blipFill>
          <a:blip r:embed="rId2"/>
          <a:stretch/>
        </p:blipFill>
        <p:spPr>
          <a:xfrm>
            <a:off x="378000" y="1352520"/>
            <a:ext cx="8442000" cy="481644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4845-96FB-4FCF-97A8-336FAADED81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1401840" y="1600200"/>
            <a:ext cx="6827760" cy="45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undo an edit, click the Undo butt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Z] to un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Backspace] to un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redo an edit, click the Redo butt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Y] to re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F4] to red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7156440" y="3510000"/>
            <a:ext cx="527040" cy="34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1" name="Picture 6" descr=""/>
          <p:cNvPicPr/>
          <p:nvPr/>
        </p:nvPicPr>
        <p:blipFill>
          <a:blip r:embed="rId3"/>
          <a:stretch/>
        </p:blipFill>
        <p:spPr>
          <a:xfrm>
            <a:off x="7156440" y="1523880"/>
            <a:ext cx="6159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533520" y="12193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ries is a list of labels, numbers, dates, or times that follows a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create a series by keying two values or labels that set an identifiabl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ries is extended using the Fill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94504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5" name="Oval 2"/>
          <p:cNvSpPr/>
          <p:nvPr/>
        </p:nvSpPr>
        <p:spPr>
          <a:xfrm>
            <a:off x="6248520" y="5334120"/>
            <a:ext cx="6094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1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47456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96B0-3687-4C6E-BACB-FBFC596760A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"/>
          <p:cNvSpPr/>
          <p:nvPr/>
        </p:nvSpPr>
        <p:spPr>
          <a:xfrm>
            <a:off x="685800" y="163836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umns are 8.43 spaces (64 pixels) wide with the default Office document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ows are 15.00 points (20 pixels)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point measures 1/72 i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creenTip helps you size columns/rows when you drag a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also use the Column Width and Row Height dialog bo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521920" cy="8049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762120" y="3809880"/>
            <a:ext cx="436248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 Box 10"/>
          <p:cNvSpPr/>
          <p:nvPr/>
        </p:nvSpPr>
        <p:spPr>
          <a:xfrm>
            <a:off x="5330880" y="4952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sizing a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3"/>
          <a:stretch/>
        </p:blipFill>
        <p:spPr>
          <a:xfrm>
            <a:off x="4000680" y="1301760"/>
            <a:ext cx="495288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5" name="Text Box 10"/>
          <p:cNvSpPr/>
          <p:nvPr/>
        </p:nvSpPr>
        <p:spPr>
          <a:xfrm>
            <a:off x="1734480" y="16002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sizing a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2"/>
          <p:cNvSpPr/>
          <p:nvPr/>
        </p:nvSpPr>
        <p:spPr>
          <a:xfrm>
            <a:off x="4800600" y="1143000"/>
            <a:ext cx="16002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685800" y="4483080"/>
            <a:ext cx="182880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890640" y="-648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3"/>
          <p:cNvSpPr/>
          <p:nvPr/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erted or deleted rows and columns extend across and down the entir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a row/column is inserted within a formula range, the formula is adjusted to include the new row/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a row/column within a formula range is deleted, the formula is adju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29852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82C-C76F-4C3B-99F5-75B8F0812A1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685800" y="14479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ave a workbook, give it a descriptive fi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y to keep file names as short as possible, although they can be up to 255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use uppercase or lowercase letters in a file name. Windows does not distinguish between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use these characters in a fil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\ ? : * “ &lt; &gt;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workbook file names are followed by a period and a four-letter extension, XLS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3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278400" cy="1298520"/>
          </a:xfrm>
          <a:prstGeom prst="rect">
            <a:avLst/>
          </a:prstGeom>
          <a:ln w="0">
            <a:noFill/>
          </a:ln>
        </p:spPr>
      </p:pic>
      <p:sp>
        <p:nvSpPr>
          <p:cNvPr id="33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0EC1-E0A3-428F-8DC7-19E86F2D055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209" name="Title 5" descr=""/>
          <p:cNvPicPr/>
          <p:nvPr/>
        </p:nvPicPr>
        <p:blipFill>
          <a:blip r:embed="rId2"/>
          <a:stretch/>
        </p:blipFill>
        <p:spPr>
          <a:xfrm>
            <a:off x="3041640" y="2762280"/>
            <a:ext cx="5121360" cy="140184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23F-8F73-4061-9C5B-466160AB27E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P] to open Backstage view for print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 and choose Print to open Backstage vie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Quick Print button             if it is on the Quick Access tool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490680" cy="49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214-Fig01-17.png"/>
          <p:cNvPicPr/>
          <p:nvPr/>
        </p:nvPicPr>
        <p:blipFill>
          <a:blip r:embed="rId2"/>
          <a:stretch/>
        </p:blipFill>
        <p:spPr>
          <a:xfrm>
            <a:off x="1600200" y="1371600"/>
            <a:ext cx="647712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44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199200" cy="147456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018C-3D42-4491-B9D2-4836EEF6451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884160" y="-6480"/>
            <a:ext cx="8650440" cy="1158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214-Fig01-19.png"/>
          <p:cNvPicPr/>
          <p:nvPr/>
        </p:nvPicPr>
        <p:blipFill>
          <a:blip r:embed="rId2"/>
          <a:stretch/>
        </p:blipFill>
        <p:spPr>
          <a:xfrm>
            <a:off x="5381640" y="1306440"/>
            <a:ext cx="2771640" cy="504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8" name="Picture 7" descr="214-Fig01-18.png"/>
          <p:cNvPicPr/>
          <p:nvPr/>
        </p:nvPicPr>
        <p:blipFill>
          <a:blip r:embed="rId3"/>
          <a:stretch/>
        </p:blipFill>
        <p:spPr>
          <a:xfrm>
            <a:off x="1004760" y="1787400"/>
            <a:ext cx="4024440" cy="369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709640" y="1676520"/>
            <a:ext cx="5724720" cy="42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Oval 3"/>
          <p:cNvSpPr/>
          <p:nvPr/>
        </p:nvSpPr>
        <p:spPr>
          <a:xfrm>
            <a:off x="3581280" y="152388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6"/>
          <p:cNvSpPr/>
          <p:nvPr/>
        </p:nvSpPr>
        <p:spPr>
          <a:xfrm>
            <a:off x="5905440" y="283212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5"/>
          <p:cNvSpPr/>
          <p:nvPr/>
        </p:nvSpPr>
        <p:spPr>
          <a:xfrm>
            <a:off x="6324480" y="5410080"/>
            <a:ext cx="9907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47456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036B-6B71-4642-8A85-1BD1ACEDEDD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008920" cy="11588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761760" y="16765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lignment determines how the contents of a cell are positioned in th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border is a line around a cell or a group of cells. Borders are used to emphasize data, group data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l is the background color or pattern for a cell or group of cells. It is used for grouping and empha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828720" y="1676520"/>
            <a:ext cx="7934400" cy="40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487600" cy="615960"/>
          </a:xfrm>
          <a:prstGeom prst="rect">
            <a:avLst/>
          </a:prstGeom>
          <a:ln w="0">
            <a:noFill/>
          </a:ln>
        </p:spPr>
      </p:pic>
      <p:pic>
        <p:nvPicPr>
          <p:cNvPr id="36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73480" cy="1474560"/>
          </a:xfrm>
          <a:prstGeom prst="rect">
            <a:avLst/>
          </a:prstGeom>
          <a:ln w="0">
            <a:noFill/>
          </a:ln>
        </p:spPr>
      </p:pic>
      <p:sp>
        <p:nvSpPr>
          <p:cNvPr id="36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A04-D154-4ACB-8D1D-16FFAB9DE42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1036800" y="-6480"/>
            <a:ext cx="8150040" cy="1158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034040" cy="514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you start Excel depends on how your software is installed and what shortcuts, if any, are avail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opens with a blank workbook, the Quick Access toolbar, and the Ribb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creen size and its resolution setting affect how command buttons appe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66680" y="19047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a graph of data i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style is a preset selection of colors and special effec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has many smaller objects including a title and data labe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957240" y="212760"/>
            <a:ext cx="815040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61760" y="2514240"/>
            <a:ext cx="7848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le command tab and choose Ex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Close button           to close the workbook and then again to exi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Ctrl]+[F4] to close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-284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s [Alt]+[F4] to exit Exc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609480" y="1371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several ways to close a workbook and exit Excel.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910040" y="3070080"/>
            <a:ext cx="414360" cy="41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106632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opens with a blank workbook and the Ribbo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File command tab shows information about the open workbook and provides access to Open, Print, and Save &amp; Send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new workbook opens with three worksheets. A worksheet is an individual page or tab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914400" y="15998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s are divided into cells, the intersections of rows and columns. The location of the cell is its address (also called its cell reference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ctive cell is outlined with a black border. It is ready to accept new data or a formula or to be edi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Name Box shows the address of the active cell. You can also use it to change the active cel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143000" y="15998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place cell data by clicking the cell and keying new data. Edit long or complicated cell data rather than rekeying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Undo and Redo buttons have history arrows so that you can undo or redo multiple commands at o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the Fill handle to fill a series of labels or to copy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914040" y="175212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umn widths and row heights can be changed, and columns and rows can be inserted or dele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workbook has an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xlsx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ile name extensio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unction is a built-in formula. Commonly used functions such as SUM and AVERAGE can be inserted from a button on the Home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9036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lignment affects how cell contents are horizontally or vertically position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l and borders can be used to differentiate and emphasize parts of the worksheet for greater readabilit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a graphic representation of data in a worksheet. Charts have various elements that can be edited to change the look of the char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858000" cy="514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0"/>
          <p:cNvGrpSpPr/>
          <p:nvPr/>
        </p:nvGrpSpPr>
        <p:grpSpPr>
          <a:xfrm>
            <a:off x="356400" y="1219320"/>
            <a:ext cx="8673120" cy="5298120"/>
            <a:chOff x="356400" y="1219320"/>
            <a:chExt cx="8673120" cy="5298120"/>
          </a:xfrm>
        </p:grpSpPr>
        <p:sp>
          <p:nvSpPr>
            <p:cNvPr id="216" name="Text Box 17"/>
            <p:cNvSpPr/>
            <p:nvPr/>
          </p:nvSpPr>
          <p:spPr>
            <a:xfrm>
              <a:off x="2641320" y="1219320"/>
              <a:ext cx="203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Quick Access tool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9"/>
            <p:cNvSpPr/>
            <p:nvPr/>
          </p:nvSpPr>
          <p:spPr>
            <a:xfrm>
              <a:off x="8223840" y="175248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Ribb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0"/>
            <p:cNvSpPr/>
            <p:nvPr/>
          </p:nvSpPr>
          <p:spPr>
            <a:xfrm>
              <a:off x="2495520" y="228600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Name Bo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4379760" y="541008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Horizontal scroll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2"/>
            <p:cNvSpPr/>
            <p:nvPr/>
          </p:nvSpPr>
          <p:spPr>
            <a:xfrm>
              <a:off x="5160240" y="2124000"/>
              <a:ext cx="12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Formula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3"/>
            <p:cNvSpPr/>
            <p:nvPr/>
          </p:nvSpPr>
          <p:spPr>
            <a:xfrm>
              <a:off x="2208960" y="28465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Active c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4"/>
            <p:cNvSpPr/>
            <p:nvPr/>
          </p:nvSpPr>
          <p:spPr>
            <a:xfrm>
              <a:off x="5787720" y="121932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Title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5"/>
            <p:cNvSpPr/>
            <p:nvPr/>
          </p:nvSpPr>
          <p:spPr>
            <a:xfrm>
              <a:off x="1940040" y="371484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Row h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6"/>
            <p:cNvSpPr/>
            <p:nvPr/>
          </p:nvSpPr>
          <p:spPr>
            <a:xfrm>
              <a:off x="7235640" y="5151600"/>
              <a:ext cx="1267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Zoom slid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and butt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7"/>
            <p:cNvSpPr/>
            <p:nvPr/>
          </p:nvSpPr>
          <p:spPr>
            <a:xfrm>
              <a:off x="356400" y="1752480"/>
              <a:ext cx="143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Command t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8"/>
            <p:cNvSpPr/>
            <p:nvPr/>
          </p:nvSpPr>
          <p:spPr>
            <a:xfrm>
              <a:off x="6366240" y="3886200"/>
              <a:ext cx="174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Vertical scroll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9"/>
            <p:cNvSpPr/>
            <p:nvPr/>
          </p:nvSpPr>
          <p:spPr>
            <a:xfrm>
              <a:off x="1626840" y="525780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Tab scrolling butt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0"/>
            <p:cNvSpPr/>
            <p:nvPr/>
          </p:nvSpPr>
          <p:spPr>
            <a:xfrm>
              <a:off x="3597480" y="6210360"/>
              <a:ext cx="10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Status b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1"/>
            <p:cNvSpPr/>
            <p:nvPr/>
          </p:nvSpPr>
          <p:spPr>
            <a:xfrm>
              <a:off x="6139440" y="5740560"/>
              <a:ext cx="142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View switc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2"/>
            <p:cNvSpPr/>
            <p:nvPr/>
          </p:nvSpPr>
          <p:spPr>
            <a:xfrm>
              <a:off x="2018520" y="5638680"/>
              <a:ext cx="15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Worksheet ta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3"/>
            <p:cNvSpPr/>
            <p:nvPr/>
          </p:nvSpPr>
          <p:spPr>
            <a:xfrm flipH="1">
              <a:off x="23623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4"/>
            <p:cNvSpPr/>
            <p:nvPr/>
          </p:nvSpPr>
          <p:spPr>
            <a:xfrm flipH="1">
              <a:off x="5508720" y="1371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5"/>
            <p:cNvSpPr/>
            <p:nvPr/>
          </p:nvSpPr>
          <p:spPr>
            <a:xfrm flipH="1">
              <a:off x="4876920" y="2286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6"/>
            <p:cNvSpPr/>
            <p:nvPr/>
          </p:nvSpPr>
          <p:spPr>
            <a:xfrm flipH="1" flipV="1">
              <a:off x="2209320" y="2335320"/>
              <a:ext cx="38124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7"/>
            <p:cNvSpPr/>
            <p:nvPr/>
          </p:nvSpPr>
          <p:spPr>
            <a:xfrm flipH="1" flipV="1">
              <a:off x="2057040" y="2722680"/>
              <a:ext cx="19044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8"/>
            <p:cNvSpPr/>
            <p:nvPr/>
          </p:nvSpPr>
          <p:spPr>
            <a:xfrm flipH="1">
              <a:off x="1676520" y="3886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9"/>
            <p:cNvSpPr/>
            <p:nvPr/>
          </p:nvSpPr>
          <p:spPr>
            <a:xfrm>
              <a:off x="803916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0"/>
            <p:cNvSpPr/>
            <p:nvPr/>
          </p:nvSpPr>
          <p:spPr>
            <a:xfrm flipV="1">
              <a:off x="1673280" y="1617480"/>
              <a:ext cx="3841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2"/>
            <p:cNvSpPr/>
            <p:nvPr/>
          </p:nvSpPr>
          <p:spPr>
            <a:xfrm>
              <a:off x="8153280" y="1676520"/>
              <a:ext cx="152640" cy="4572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3"/>
            <p:cNvSpPr/>
            <p:nvPr/>
          </p:nvSpPr>
          <p:spPr>
            <a:xfrm>
              <a:off x="5684040" y="3048120"/>
              <a:ext cx="173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rbel"/>
                </a:rPr>
                <a:t>Column h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4"/>
            <p:cNvSpPr/>
            <p:nvPr/>
          </p:nvSpPr>
          <p:spPr>
            <a:xfrm flipV="1">
              <a:off x="6553080" y="2541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5"/>
            <p:cNvSpPr/>
            <p:nvPr/>
          </p:nvSpPr>
          <p:spPr>
            <a:xfrm>
              <a:off x="685800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6"/>
            <p:cNvSpPr/>
            <p:nvPr/>
          </p:nvSpPr>
          <p:spPr>
            <a:xfrm>
              <a:off x="5356080" y="568944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7"/>
            <p:cNvSpPr/>
            <p:nvPr/>
          </p:nvSpPr>
          <p:spPr>
            <a:xfrm>
              <a:off x="7856640" y="56386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8"/>
            <p:cNvSpPr/>
            <p:nvPr/>
          </p:nvSpPr>
          <p:spPr>
            <a:xfrm flipH="1">
              <a:off x="1649160" y="5537160"/>
              <a:ext cx="3524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9"/>
            <p:cNvSpPr/>
            <p:nvPr/>
          </p:nvSpPr>
          <p:spPr>
            <a:xfrm>
              <a:off x="2752560" y="5918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871560" y="-6480"/>
            <a:ext cx="85104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1371600" y="1301760"/>
            <a:ext cx="6934320" cy="52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book is the file that Excel creates to store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orksheet is an individual page or tab in th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is a rectangle formed by the intersection of a row and a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ddresses identify where the cell is located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236080" cy="115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1523880" y="1295280"/>
            <a:ext cx="6678720" cy="51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79320" y="121932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you scroll in a worksheet, the active cell does not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2625840" y="1841400"/>
            <a:ext cx="4190760" cy="456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TextBox 4"/>
          <p:cNvSpPr/>
          <p:nvPr/>
        </p:nvSpPr>
        <p:spPr>
          <a:xfrm>
            <a:off x="7010280" y="2146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Up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7010280" y="5867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Down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6"/>
          <p:cNvCxnSpPr/>
          <p:nvPr/>
        </p:nvCxnSpPr>
        <p:spPr>
          <a:xfrm flipH="1" flipV="1">
            <a:off x="6794280" y="1980360"/>
            <a:ext cx="3052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9" name="Straight Arrow Connector 9"/>
          <p:cNvCxnSpPr/>
          <p:nvPr/>
        </p:nvCxnSpPr>
        <p:spPr>
          <a:xfrm flipH="1">
            <a:off x="6794280" y="605772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TextBox 13"/>
          <p:cNvSpPr/>
          <p:nvPr/>
        </p:nvSpPr>
        <p:spPr>
          <a:xfrm>
            <a:off x="4416480" y="335268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Vertical scroll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3843360" y="5138640"/>
            <a:ext cx="21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orizontal scroll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1"/>
          <p:cNvCxnSpPr/>
          <p:nvPr/>
        </p:nvCxnSpPr>
        <p:spPr>
          <a:xfrm>
            <a:off x="4892400" y="5478480"/>
            <a:ext cx="108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Straight Arrow Connector 16"/>
          <p:cNvCxnSpPr/>
          <p:nvPr/>
        </p:nvCxnSpPr>
        <p:spPr>
          <a:xfrm>
            <a:off x="6324120" y="3522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TextBox 20"/>
          <p:cNvSpPr/>
          <p:nvPr/>
        </p:nvSpPr>
        <p:spPr>
          <a:xfrm>
            <a:off x="2130480" y="5467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Left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8"/>
          <p:cNvCxnSpPr/>
          <p:nvPr/>
        </p:nvCxnSpPr>
        <p:spPr>
          <a:xfrm>
            <a:off x="3403440" y="5790960"/>
            <a:ext cx="339120" cy="33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Box 23"/>
          <p:cNvSpPr/>
          <p:nvPr/>
        </p:nvSpPr>
        <p:spPr>
          <a:xfrm>
            <a:off x="6561000" y="5172120"/>
            <a:ext cx="17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Right scroll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21"/>
          <p:cNvCxnSpPr/>
          <p:nvPr/>
        </p:nvCxnSpPr>
        <p:spPr>
          <a:xfrm flipH="1">
            <a:off x="6560280" y="5491080"/>
            <a:ext cx="65340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8" name="TextBox 26"/>
          <p:cNvSpPr/>
          <p:nvPr/>
        </p:nvSpPr>
        <p:spPr>
          <a:xfrm>
            <a:off x="1515960" y="6006960"/>
            <a:ext cx="12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ab spl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24"/>
          <p:cNvCxnSpPr/>
          <p:nvPr/>
        </p:nvCxnSpPr>
        <p:spPr>
          <a:xfrm>
            <a:off x="2743200" y="6227280"/>
            <a:ext cx="830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5:49Z</dcterms:modified>
  <cp:revision>85</cp:revision>
  <dc:subject/>
  <dc:title>Microsoft office</dc:title>
</cp:coreProperties>
</file>